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type.wav" ContentType="audio/x-wav"/>
  <Override PartName="/ppt/media/chimes.wav" ContentType="audio/x-wav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881A-E556-4B7D-8ACC-2CF7035B1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EC55-CBE4-4053-ABFD-5ECAEB34B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90FF1C-02D8-4AA6-84BE-37B71387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F97E55-8F20-4ED6-AE59-4A6B8E7E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AFB935-0732-4974-A31F-C8CB06F6C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029521-F987-43EC-A9AB-D29C2EC6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EA3852-34FC-4205-A2EE-84DA0491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036830-0D06-45E8-8AB0-485AA2A5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0B0975-AF5C-4BCD-8D4E-4FBD0D01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AEA176-018D-4A9D-9A4B-268494800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C3EA41-24E5-428B-B594-F611DBF25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4B1925-02C7-4A05-B1AD-214CDC634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802B-76C8-4F3A-9836-8C11E77C3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16AD77-8E1B-45D7-8C22-AE04E86F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4DC33E-4224-4B11-AF66-7AB70A32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318651-D34B-4399-88B1-FBAAFD41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B75AA1-AFD4-491B-AC03-BFC1F387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96DE6B-BCB6-4F88-B2DD-60438101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4187C4-33F2-4415-9037-2F2DEA4A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74146F-2327-4083-A5FD-F433FC80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A3D835-93DC-429B-A29E-ECFC53FE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68AF13-3D76-48AD-A3C2-C74E2799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DF1012-6B71-4691-BF81-1C40A8F1F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930C-FD11-485C-985C-9E96E0BC0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5A4070-91C2-4165-9E79-E4582D27F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DCCF4A-4C46-44E6-965E-FA5D5BADF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23379-B239-4CE8-BED0-CD866A75A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69E6C0-02BB-4587-94E3-D955F63C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F85D79-F9F2-4FA3-ADBA-A5A7FEB5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ECD19E-2A1A-4435-8156-7B340998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1FD5CD-978D-4CF8-926B-FAAE739E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27B93-D31D-4C9D-9BEC-0537CA4D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08BB0D-06BB-457A-B27B-02AA6F49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6485E0-5D61-49D4-B9FB-83D58EE9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453CA-6812-45D5-9789-5194E98A9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ACE64-C7F4-4A2C-AE01-1B7D1D7F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47D2C6-EA38-43FE-8F7C-39D0F75F6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03F499-A19F-4ED7-A1A4-BFEBE1BF8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7319D2-8E68-41B5-890C-F514E3720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6A7E60-D254-4164-84D2-6D839739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AED092-84BC-43D9-B53D-1F9AD509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93384A-B43D-4703-B7A4-36CB680DD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E7F447-4997-4229-A56C-21DA2D5E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2284DA-1239-469D-9067-6F16F3A6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657FBD-A2E5-41D5-B09A-5721B63D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5508-03FD-4BAE-AA36-15713946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F0A2C1-E073-4A88-B4AD-DD86E58B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5611B5-8677-45DE-BD20-E6DBB30A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36471F-495E-4CC7-9B4A-118C17B4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E28DF0-276A-4A10-B797-82ED09C44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308B20-26A8-4303-83A8-A8DEA5D75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A190-B24A-4FA3-92CF-6716BD5DD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F0BC-8032-4DF1-A676-6C9ED2CD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A174-0C15-4377-807B-2177B2D2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45DD5-359E-446C-BC94-3115A7AD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4DEA-CD01-45CF-ACF8-ED034872D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249F-EA98-42A9-8824-6C3B3B65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526EE-EC16-4CBB-AB86-BD86DB20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4B08-48DD-423F-8CEE-CB367397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1EA37-5658-43A1-860A-44A6F0941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7F3A7-6123-4801-B77C-F1EF922B8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4431-98A4-41C0-8BC8-1322A8183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7E940-ED7B-4FBC-B549-AB0BFD26A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2D37C-BE95-49DE-8FD4-68C019EC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92083-8374-4FCC-AFE2-F5C699CE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9B886-1387-40D9-A406-A92FEAB0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370BB-1A3C-4476-AC3E-B94C9BFD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578A-F426-4CA4-B768-C0D2CC67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50049-AAF7-4DAA-AD3B-9F57A2B6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BB4B8-0E7D-4FDC-8C53-62A26240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F3D70-E9E1-4400-8613-FB2791F6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08715-9F08-49C4-B915-3ABEB5F6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77C61-D471-4F54-B611-1F4ED673A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C9FF2-B9D9-4045-A7B6-6110C5BFE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F14FB-500C-4DE3-A59E-5D89FAE40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0E9F0-767E-4FFB-B72B-A9AB644AE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DFC27-00EE-4E2D-8142-E99BE7ED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BAE3C-007C-409D-99E0-CC90ED87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B690-9295-4A01-A878-BDE7B3BA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198C5-357F-422F-AF34-764586C3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DF7D7-3C48-43A5-A3F3-1752AEF2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98F52-60E0-47C8-842A-613AF726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6AEAB-0F80-4247-B36A-30BDFE38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696D0-217D-41EA-89CE-A14AE731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BDDBE-AD45-4D2F-BFDA-3FAEFC17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6C790-69CF-4944-98C1-A7EA8080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7CEC2-B172-4C3D-A6F3-E54AB794E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EED57-A453-4030-82D1-F5D2DDDE2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FD23D-6BE9-40A4-B9F9-0F6C9EAEB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46E4-014B-44CE-9CE7-C5C77582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39F3F-240B-4BD4-882D-7C1761E3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81AE1-3700-45E8-8885-3871BB9C8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4A76D-0AC7-4111-9A14-5C4DBA1C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90552-175B-4ADF-B8EF-11793B32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3EF7E-12CA-4E3C-94D6-B65475F4A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0B42D-AFEB-4A7B-B366-0DF68ADD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B5109-1658-49B3-9E79-5884B53A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CD2FC-21D0-45DD-A8CE-1DC06AF3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F6B1C-38CA-4390-ABB1-11E6FE0F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51D65-BEEE-4301-9543-29700B633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224A-6C49-4CC2-A4E1-99A6A92D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22E65-D51B-49C0-98F4-7ED3031A7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9A070-B97E-46AE-BD1A-F6909232D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B92B5-4538-43D3-A197-BC00BEE1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4E60B-13F4-4FEF-A2E4-018DA9D8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43921C-A0CF-47CB-88A6-3B201422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F5F6C-AF74-4B47-8042-6522DEF68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6C55F-58BA-4B69-8185-5FA9DC20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7F884-BFD1-4050-8859-1EE89F55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E8BCF-2CB8-49FC-A1A0-56C81EA3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9E1B6-ECD4-4147-BEB3-301ECF57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F426-232C-4872-B8FA-25ECC462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B20E21-687D-42B5-9983-39746F14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F5A92-9FF6-45D2-AAC3-C50B82A55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2E720-F07E-43A4-8CD5-2B3BC3D43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0AD57-2FC5-4340-9391-D08E4C4CA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9A654-180C-499B-8372-FB462970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11EC2-382C-47BD-A23F-AB56112C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7BE28-32C0-4B70-BFC5-FD8D0381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F165B-3DA7-4762-9CA3-4BD3B380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4ECD6-13A5-44C1-9E18-D2174A8B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C088F-A18D-46A8-9DE7-B878BB5F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7381-C1FC-4F34-9EA0-6F74F4FF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C8CD6-4863-4A07-BDE7-07E9BAD5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16403-08DE-4504-A82D-C31C86DF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C6F75-84CC-4463-9ECD-151C3203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EF6AD-6EF9-4FE4-87AC-5400CF659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6CFE2-4971-48D5-8808-FB95A23EC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1D388-D319-4214-8041-EC3EDA616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0D8D54-95B0-49A3-B190-E38656DF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8A700-2AB5-4E1E-8BDD-F5B6B513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E02780-B7DD-447E-9E8B-797C0B1D9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952EE-8A85-459F-B1CC-96E909A5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CD7F-F79F-4FE8-A892-0229578B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3D880-CDC0-4BF4-893E-AFCB13F1C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179213-2193-4BE3-A6DF-1EC9524E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5BA42-D479-4DE0-A0AD-D29856E3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22E66F-570C-494E-869C-260D8F47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436F1D-B049-4AC0-A347-66D169B8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A2638-3FEA-4023-BC0C-22D7C2EEB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07CCB9-F664-4139-A50E-F8ABED055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DA4A64-C9B3-44A4-B148-8E62E45BF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624A7E-DA25-4E71-8875-BB00B4FD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D8A788-E582-4D6E-97FB-5988FC6F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962D-99F4-4C6A-BDA1-CFDDAC850D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矩形 1"/>
          <p:cNvSpPr/>
          <p:nvPr/>
        </p:nvSpPr>
        <p:spPr>
          <a:xfrm>
            <a:off x="8101080" y="6021360"/>
            <a:ext cx="1042920" cy="8366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矩形 1"/>
          <p:cNvSpPr/>
          <p:nvPr/>
        </p:nvSpPr>
        <p:spPr>
          <a:xfrm>
            <a:off x="8101080" y="6021360"/>
            <a:ext cx="1042920" cy="8366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95976-E4B6-4E30-AE72-7EE1A8C1685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矩形 1"/>
          <p:cNvSpPr/>
          <p:nvPr/>
        </p:nvSpPr>
        <p:spPr>
          <a:xfrm>
            <a:off x="8101080" y="6021360"/>
            <a:ext cx="1042920" cy="8366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2E82-7288-46A8-99A8-8160D904085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矩形 1"/>
          <p:cNvSpPr/>
          <p:nvPr/>
        </p:nvSpPr>
        <p:spPr>
          <a:xfrm>
            <a:off x="8101080" y="6021360"/>
            <a:ext cx="1042920" cy="8366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45D1-06D6-4B05-AF84-6C8E808EFC0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1"/>
          <p:cNvSpPr/>
          <p:nvPr/>
        </p:nvSpPr>
        <p:spPr>
          <a:xfrm>
            <a:off x="8101080" y="6021360"/>
            <a:ext cx="1042920" cy="8366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7AAC-0EC9-4100-8D4E-3E273560A43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1"/>
          <p:cNvSpPr/>
          <p:nvPr/>
        </p:nvSpPr>
        <p:spPr>
          <a:xfrm>
            <a:off x="8101080" y="6021360"/>
            <a:ext cx="1042920" cy="8366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379DF-5A23-4495-A29F-0A9B1F8EDBE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1"/>
          <p:cNvSpPr/>
          <p:nvPr/>
        </p:nvSpPr>
        <p:spPr>
          <a:xfrm>
            <a:off x="8101080" y="6021360"/>
            <a:ext cx="1042920" cy="8366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4ABF-9FC0-487E-A920-2D7979540E7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矩形 1"/>
          <p:cNvSpPr/>
          <p:nvPr/>
        </p:nvSpPr>
        <p:spPr>
          <a:xfrm>
            <a:off x="8101080" y="6021360"/>
            <a:ext cx="1042920" cy="8366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0080-65E7-429F-BA27-316B1E1F34D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矩形 1"/>
          <p:cNvSpPr/>
          <p:nvPr/>
        </p:nvSpPr>
        <p:spPr>
          <a:xfrm>
            <a:off x="8101080" y="6021360"/>
            <a:ext cx="1042920" cy="8366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160A-6226-405A-94FA-6FEB2B4F5E7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矩形 1"/>
          <p:cNvSpPr/>
          <p:nvPr/>
        </p:nvSpPr>
        <p:spPr>
          <a:xfrm>
            <a:off x="8101080" y="6021360"/>
            <a:ext cx="1042920" cy="8366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87E1F-EDAF-4A7F-A1FD-AC9E96D8130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矩形 1"/>
          <p:cNvSpPr/>
          <p:nvPr/>
        </p:nvSpPr>
        <p:spPr>
          <a:xfrm>
            <a:off x="8101080" y="6021360"/>
            <a:ext cx="1042920" cy="8366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E58C-DE08-47DD-B4A7-07E61034906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矩形 1"/>
          <p:cNvSpPr/>
          <p:nvPr/>
        </p:nvSpPr>
        <p:spPr>
          <a:xfrm>
            <a:off x="8101080" y="6021360"/>
            <a:ext cx="1042920" cy="8366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EB02-6ED8-4339-B897-1BD092FEDCA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 Box 5" descr=""/>
          <p:cNvPicPr/>
          <p:nvPr/>
        </p:nvPicPr>
        <p:blipFill>
          <a:blip r:embed="rId1"/>
          <a:stretch/>
        </p:blipFill>
        <p:spPr>
          <a:xfrm>
            <a:off x="0" y="1847880"/>
            <a:ext cx="9144000" cy="1992240"/>
          </a:xfrm>
          <a:prstGeom prst="rect">
            <a:avLst/>
          </a:prstGeom>
          <a:ln w="0">
            <a:noFill/>
          </a:ln>
        </p:spPr>
      </p:pic>
      <p:pic>
        <p:nvPicPr>
          <p:cNvPr id="505" name="Text Box 5" descr=""/>
          <p:cNvPicPr/>
          <p:nvPr/>
        </p:nvPicPr>
        <p:blipFill>
          <a:blip r:embed="rId2"/>
          <a:stretch/>
        </p:blipFill>
        <p:spPr>
          <a:xfrm>
            <a:off x="0" y="3975120"/>
            <a:ext cx="9144000" cy="993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TextBox 1" descr=""/>
          <p:cNvPicPr/>
          <p:nvPr/>
        </p:nvPicPr>
        <p:blipFill>
          <a:blip r:embed="rId1"/>
          <a:stretch/>
        </p:blipFill>
        <p:spPr>
          <a:xfrm>
            <a:off x="1182600" y="176040"/>
            <a:ext cx="3316320" cy="615960"/>
          </a:xfrm>
          <a:prstGeom prst="rect">
            <a:avLst/>
          </a:prstGeom>
          <a:ln w="0">
            <a:noFill/>
          </a:ln>
        </p:spPr>
      </p:pic>
      <p:sp>
        <p:nvSpPr>
          <p:cNvPr id="507" name="TextBox 1"/>
          <p:cNvSpPr/>
          <p:nvPr/>
        </p:nvSpPr>
        <p:spPr>
          <a:xfrm>
            <a:off x="1324800" y="1163520"/>
            <a:ext cx="6418080" cy="75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某电子厂商投产一种新型电子产品，每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制造成本为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元，试销过程中发现，每月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售量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万件）与销售单价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元）之间的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系可以看做一次函数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y=-2x+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利润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=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售价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-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制造成本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写出每月的利润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w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万元）与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元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之间的函数表达式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当销售单价为多少元时，厂商每月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获得最大利润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最大利润是多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TextBox 1" descr=""/>
          <p:cNvPicPr/>
          <p:nvPr/>
        </p:nvPicPr>
        <p:blipFill>
          <a:blip r:embed="rId1"/>
          <a:stretch/>
        </p:blipFill>
        <p:spPr>
          <a:xfrm>
            <a:off x="1182600" y="176040"/>
            <a:ext cx="3316320" cy="615960"/>
          </a:xfrm>
          <a:prstGeom prst="rect">
            <a:avLst/>
          </a:prstGeom>
          <a:ln w="0">
            <a:noFill/>
          </a:ln>
        </p:spPr>
      </p:pic>
      <p:sp>
        <p:nvSpPr>
          <p:cNvPr id="509" name="TextBox 1"/>
          <p:cNvSpPr/>
          <p:nvPr/>
        </p:nvSpPr>
        <p:spPr>
          <a:xfrm>
            <a:off x="1596240" y="1341360"/>
            <a:ext cx="6208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某网店以每件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60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元的价格购进一批商品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若以单价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80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元销售，每月可售出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300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调查表明：单价每上涨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元，该商品每月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销量就减少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请写出每月销售该商品的利润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元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与单价上涨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x(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元）间的函数表达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请写出每月销售该商品的利润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元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与定价</a:t>
            </a:r>
            <a:r>
              <a:rPr b="1" lang="en-US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a(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元）间的函数表达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Box 1"/>
          <p:cNvSpPr/>
          <p:nvPr/>
        </p:nvSpPr>
        <p:spPr>
          <a:xfrm>
            <a:off x="786960" y="476280"/>
            <a:ext cx="52358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例</a:t>
            </a:r>
            <a:r>
              <a:rPr b="1" lang="en-US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4 </a:t>
            </a:r>
            <a:r>
              <a:rPr b="1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如图，已知边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为</a:t>
            </a:r>
            <a:r>
              <a:rPr b="1" lang="en-US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的正方形</a:t>
            </a:r>
            <a:r>
              <a:rPr b="1" lang="en-US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ABCD</a:t>
            </a:r>
            <a:r>
              <a:rPr b="1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在</a:t>
            </a:r>
            <a:r>
              <a:rPr b="1" lang="en-US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BC</a:t>
            </a:r>
            <a:r>
              <a:rPr b="1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边上有一动点</a:t>
            </a:r>
            <a:r>
              <a:rPr b="1" lang="en-US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连接</a:t>
            </a:r>
            <a:r>
              <a:rPr b="1" lang="en-US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AE,</a:t>
            </a:r>
            <a:r>
              <a:rPr b="1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作</a:t>
            </a:r>
            <a:r>
              <a:rPr b="1" lang="en-US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EF⊥AE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交</a:t>
            </a:r>
            <a:r>
              <a:rPr b="1" lang="en-US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CD</a:t>
            </a:r>
            <a:r>
              <a:rPr b="1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边于点</a:t>
            </a:r>
            <a:r>
              <a:rPr b="1" lang="en-US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(1)CF</a:t>
            </a:r>
            <a:r>
              <a:rPr b="1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的长可能等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(2</a:t>
            </a:r>
            <a:r>
              <a:rPr b="1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）点</a:t>
            </a:r>
            <a:r>
              <a:rPr b="1" lang="en-US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E</a:t>
            </a:r>
            <a:r>
              <a:rPr b="1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在什么位置时，</a:t>
            </a:r>
            <a:r>
              <a:rPr b="1" lang="en-US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CF</a:t>
            </a:r>
            <a:r>
              <a:rPr b="1" lang="zh-CN" sz="3600" spc="-1" strike="noStrike">
                <a:solidFill>
                  <a:srgbClr val="000000"/>
                </a:solidFill>
                <a:latin typeface="华文仿宋"/>
                <a:ea typeface="华文仿宋"/>
              </a:rPr>
              <a:t>的长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对象 3" descr=""/>
          <p:cNvPicPr/>
          <p:nvPr/>
        </p:nvPicPr>
        <p:blipFill>
          <a:blip r:embed="rId1"/>
          <a:stretch/>
        </p:blipFill>
        <p:spPr>
          <a:xfrm>
            <a:off x="6870600" y="4565520"/>
            <a:ext cx="936720" cy="1978200"/>
          </a:xfrm>
          <a:prstGeom prst="rect">
            <a:avLst/>
          </a:prstGeom>
          <a:ln w="0">
            <a:noFill/>
          </a:ln>
        </p:spPr>
      </p:pic>
      <p:pic>
        <p:nvPicPr>
          <p:cNvPr id="512" name="对象 4" descr=""/>
          <p:cNvPicPr/>
          <p:nvPr/>
        </p:nvPicPr>
        <p:blipFill>
          <a:blip r:embed="rId2"/>
          <a:stretch/>
        </p:blipFill>
        <p:spPr>
          <a:xfrm>
            <a:off x="3924360" y="3429000"/>
            <a:ext cx="950760" cy="1500120"/>
          </a:xfrm>
          <a:prstGeom prst="rect">
            <a:avLst/>
          </a:prstGeom>
          <a:ln w="0">
            <a:noFill/>
          </a:ln>
        </p:spPr>
      </p:pic>
      <p:sp>
        <p:nvSpPr>
          <p:cNvPr id="513" name="矩形 5"/>
          <p:cNvSpPr/>
          <p:nvPr/>
        </p:nvSpPr>
        <p:spPr>
          <a:xfrm>
            <a:off x="5796000" y="1413000"/>
            <a:ext cx="2521080" cy="2447640"/>
          </a:xfrm>
          <a:prstGeom prst="rect">
            <a:avLst/>
          </a:prstGeom>
          <a:solidFill>
            <a:srgbClr val="fffff7"/>
          </a:solidFill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直接连接符 7"/>
          <p:cNvSpPr/>
          <p:nvPr/>
        </p:nvSpPr>
        <p:spPr>
          <a:xfrm>
            <a:off x="5796000" y="1413000"/>
            <a:ext cx="792000" cy="2447640"/>
          </a:xfrm>
          <a:prstGeom prst="line">
            <a:avLst/>
          </a:prstGeom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直接连接符 9"/>
          <p:cNvSpPr/>
          <p:nvPr/>
        </p:nvSpPr>
        <p:spPr>
          <a:xfrm flipV="1">
            <a:off x="6588000" y="3212640"/>
            <a:ext cx="1729080" cy="647640"/>
          </a:xfrm>
          <a:prstGeom prst="line">
            <a:avLst/>
          </a:prstGeom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10"/>
          <p:cNvSpPr/>
          <p:nvPr/>
        </p:nvSpPr>
        <p:spPr>
          <a:xfrm>
            <a:off x="5281200" y="1089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11"/>
          <p:cNvSpPr/>
          <p:nvPr/>
        </p:nvSpPr>
        <p:spPr>
          <a:xfrm>
            <a:off x="8368920" y="10987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Box 12"/>
          <p:cNvSpPr/>
          <p:nvPr/>
        </p:nvSpPr>
        <p:spPr>
          <a:xfrm>
            <a:off x="8399160" y="372600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Box 13"/>
          <p:cNvSpPr/>
          <p:nvPr/>
        </p:nvSpPr>
        <p:spPr>
          <a:xfrm>
            <a:off x="5292720" y="3675240"/>
            <a:ext cx="102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14"/>
          <p:cNvSpPr/>
          <p:nvPr/>
        </p:nvSpPr>
        <p:spPr>
          <a:xfrm>
            <a:off x="6381720" y="392436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Box 15"/>
          <p:cNvSpPr/>
          <p:nvPr/>
        </p:nvSpPr>
        <p:spPr>
          <a:xfrm>
            <a:off x="8450640" y="288936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TextBox 1" descr=""/>
          <p:cNvPicPr/>
          <p:nvPr/>
        </p:nvPicPr>
        <p:blipFill>
          <a:blip r:embed="rId1"/>
          <a:stretch/>
        </p:blipFill>
        <p:spPr>
          <a:xfrm>
            <a:off x="1182600" y="176040"/>
            <a:ext cx="3316320" cy="615960"/>
          </a:xfrm>
          <a:prstGeom prst="rect">
            <a:avLst/>
          </a:prstGeom>
          <a:ln w="0">
            <a:noFill/>
          </a:ln>
        </p:spPr>
      </p:pic>
      <p:sp>
        <p:nvSpPr>
          <p:cNvPr id="523" name="Rectangle 3"/>
          <p:cNvSpPr/>
          <p:nvPr/>
        </p:nvSpPr>
        <p:spPr>
          <a:xfrm>
            <a:off x="1066680" y="1143000"/>
            <a:ext cx="5791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黑体"/>
              </a:rPr>
              <a:t>二次函数应用的解题思路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4"/>
          <p:cNvSpPr/>
          <p:nvPr/>
        </p:nvSpPr>
        <p:spPr>
          <a:xfrm>
            <a:off x="457200" y="20574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33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宋体"/>
              </a:rPr>
              <a:t>回顾本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2800" spc="-1" strike="noStrike">
                <a:solidFill>
                  <a:srgbClr val="dc5900"/>
                </a:solidFill>
                <a:latin typeface="隶书"/>
                <a:ea typeface="宋体"/>
              </a:rPr>
              <a:t>最大利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2800" spc="-1" strike="noStrike">
                <a:solidFill>
                  <a:srgbClr val="dc5900"/>
                </a:solidFill>
                <a:latin typeface="隶书"/>
                <a:ea typeface="宋体"/>
              </a:rPr>
              <a:t>最大面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宋体"/>
              </a:rPr>
              <a:t>解决问题的过程，你能总结一下解决此类问题的</a:t>
            </a:r>
            <a:r>
              <a:rPr b="1" lang="zh-CN" sz="2800" spc="-1" strike="noStrike">
                <a:solidFill>
                  <a:srgbClr val="7979a5"/>
                </a:solidFill>
                <a:latin typeface="隶书"/>
                <a:ea typeface="宋体"/>
              </a:rPr>
              <a:t>基本思路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宋体"/>
              </a:rPr>
              <a:t>吗？与同伴交流</a:t>
            </a:r>
            <a:r>
              <a:rPr b="1" lang="en-US" sz="2800" spc="-1" strike="noStrike">
                <a:solidFill>
                  <a:srgbClr val="000000"/>
                </a:solidFill>
                <a:latin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2"/>
          <p:cNvSpPr/>
          <p:nvPr/>
        </p:nvSpPr>
        <p:spPr>
          <a:xfrm>
            <a:off x="457200" y="3505320"/>
            <a:ext cx="8381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理解问题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8"/>
          <p:cNvSpPr/>
          <p:nvPr/>
        </p:nvSpPr>
        <p:spPr>
          <a:xfrm>
            <a:off x="457200" y="403848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分析问题中的变量和常量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以及它们之间的关系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9"/>
          <p:cNvSpPr/>
          <p:nvPr/>
        </p:nvSpPr>
        <p:spPr>
          <a:xfrm>
            <a:off x="457200" y="4648320"/>
            <a:ext cx="8381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用数学的方式表示出它们之间的关系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0"/>
          <p:cNvSpPr/>
          <p:nvPr/>
        </p:nvSpPr>
        <p:spPr>
          <a:xfrm>
            <a:off x="457200" y="5257800"/>
            <a:ext cx="8381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做数学求解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1"/>
          <p:cNvSpPr/>
          <p:nvPr/>
        </p:nvSpPr>
        <p:spPr>
          <a:xfrm>
            <a:off x="457200" y="5791320"/>
            <a:ext cx="8381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检验结果的合理性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拓展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9T07:26:15Z</dcterms:created>
  <dc:creator>lijunhua</dc:creator>
  <dc:description/>
  <dc:language>en-US</dc:language>
  <cp:lastModifiedBy>Administrator</cp:lastModifiedBy>
  <dcterms:modified xsi:type="dcterms:W3CDTF">2018-12-29T07:26:39Z</dcterms:modified>
  <cp:revision>2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